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3.png" ContentType="image/png"/>
  <Override PartName="/ppt/media/image1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37.png" ContentType="image/png"/>
  <Override PartName="/ppt/media/image11.png" ContentType="image/png"/>
  <Override PartName="/ppt/media/image6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6.jpeg" ContentType="image/jpeg"/>
  <Override PartName="/ppt/media/image2.jpeg" ContentType="image/jpeg"/>
  <Override PartName="/ppt/media/image16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ba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51891B-9961-4074-9888-267705232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otsylvania.k12.va.us/bms/tr/Biomes/    Excellent site with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8F7-C38F-4BEC-A9B6-D9EE45D9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36E-E9CC-471B-88BB-0573EE46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EE1-5027-4046-A645-CCF5FE16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82A-86A9-4731-8223-45CA8B6E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DCF1-21CD-4E85-9F8C-2EC41E65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DDCE-6A88-47B3-8AC3-C0EA7E14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BC75-2A09-495B-8160-26E11AC0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1453-E00D-4D0B-A043-6BBA635C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97E1-5D8B-4E8B-A8DE-F6849557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D8FA-EAC1-4C2C-AFC2-9240EED1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1FB1-A909-410D-8599-95A33A2A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BB9-19DA-488F-975E-8FC7B3E1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C8DA-5A12-4D68-A4A9-0E0B9C5A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7EE6-D4D5-4CE1-B74B-CA4E8310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D593-D188-4396-8641-D8795EA7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0323-A385-4A27-A4AB-DDB0E06F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3E75-04E2-4D28-A8F4-3973A09D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4A7-923B-44CD-9CDC-11333C21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7DC-6F17-473F-8C02-1EE09E79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0CA-C124-4F1C-B1F8-B1EAAEA5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79A-F1E0-429B-9B16-B5F8577B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96B-A0CD-47F5-825C-B5E18CE1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608-49BF-4699-9E22-34E9E588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3AD-D6D2-45EC-9F7A-63DB2C1D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F741-B113-4542-B587-6204F6A84553}" type="slidenum">
              <a:rPr b="0" lang="en-US" sz="1400" spc="-1" strike="noStrike">
                <a:solidFill>
                  <a:srgbClr val="82979a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33523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b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B108-B6EA-445E-B393-4F483227E5C7}" type="slidenum">
              <a:rPr b="0" lang="en-US" sz="1400" spc="-1" strike="noStrike">
                <a:solidFill>
                  <a:srgbClr val="82979a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97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979a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979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97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82979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979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979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979a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979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979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979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33523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bad"/>
                </a:solidFill>
                <a:latin typeface="Arial"/>
              </a:rPr>
              <a:t>Biomes</a:t>
            </a:r>
            <a:endParaRPr b="0" lang="en-US" sz="44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4760" y="4280040"/>
            <a:ext cx="5638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979a"/>
                </a:solidFill>
                <a:latin typeface="Arial"/>
              </a:rPr>
              <a:t>Page 157-162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76201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Land Biomes – Six Major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2979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undra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2979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Deciduous fores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2979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Boreal fores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2979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Rainfores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2979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Grassland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2979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Deser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**See Handou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**Calculations - HW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Tundra – page 161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520" y="76176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Polar grassland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reeless plains cold all year, very little precipitation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Plants grow close to ground; thick, waxy coated leave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Poor soils; decomposition is slow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Alpine tundra – mountaintop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2979a"/>
                </a:solidFill>
                <a:uFillTx/>
                <a:latin typeface="Arial"/>
              </a:rPr>
              <a:t>Permafrost</a:t>
            </a: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 – 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2979a"/>
                </a:solidFill>
                <a:latin typeface="Arial"/>
              </a:rPr>
              <a:t>permanently frozen</a:t>
            </a:r>
            <a:endParaRPr b="1" lang="en-US" sz="3000" spc="-1" strike="noStrike">
              <a:solidFill>
                <a:srgbClr val="8297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2979a"/>
                </a:solidFill>
                <a:latin typeface="Arial"/>
              </a:rPr>
              <a:t>layer of soil</a:t>
            </a:r>
            <a:endParaRPr b="1" lang="en-US" sz="30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4120" y="431496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Tundra Biome Map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81080" y="1371600"/>
            <a:ext cx="624204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Deciduous Forest </a:t>
            </a:r>
            <a:r>
              <a:rPr b="0" lang="en-US" sz="3200" spc="-1" strike="noStrike">
                <a:solidFill>
                  <a:srgbClr val="ff5bad"/>
                </a:solidFill>
                <a:latin typeface="Arial"/>
              </a:rPr>
              <a:t>(PA biome) – p. 159</a:t>
            </a:r>
            <a:endParaRPr b="0" lang="en-US" sz="32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Moist with long, warm summers and cold winters (temperate – moderate climate)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Dominant vegetation – deciduous broadleaf trees (shed leaves)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05520" y="3809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Deciduous Forest Biome Map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905120" y="1295280"/>
            <a:ext cx="608940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Boreal Forest – </a:t>
            </a:r>
            <a:r>
              <a:rPr b="0" lang="en-US" sz="3200" spc="-1" strike="noStrike">
                <a:solidFill>
                  <a:srgbClr val="ff5bad"/>
                </a:solidFill>
                <a:latin typeface="Arial"/>
              </a:rPr>
              <a:t>page 159</a:t>
            </a:r>
            <a:endParaRPr b="0" lang="en-US" sz="32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6858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Also called Taiga – predominant vegetation is coniferous (cone bearing with waxy, needle like leaves) tree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Long, cold, dry winters; poor soi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emperate coniferous forest found mid-latitude coastal area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86200" y="4425840"/>
            <a:ext cx="36100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Boreal Forest Biome Map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609588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Rainforest – page 159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440" y="7621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2979a"/>
                </a:solidFill>
                <a:latin typeface="Arial"/>
              </a:rPr>
              <a:t>Heavy rainfall, high humidity, warm all year; poor soil (nutrients washed away by heavy rains)</a:t>
            </a:r>
            <a:endParaRPr b="1" lang="en-US" sz="30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2979a"/>
                </a:solidFill>
                <a:latin typeface="Arial"/>
              </a:rPr>
              <a:t>Tropical rainforests in equatorial regions (largest in S. America)</a:t>
            </a:r>
            <a:endParaRPr b="1" lang="en-US" sz="30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2979a"/>
                </a:solidFill>
                <a:latin typeface="Arial"/>
              </a:rPr>
              <a:t>Temperate rainforests in NW</a:t>
            </a:r>
            <a:endParaRPr b="1" lang="en-US" sz="30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2979a"/>
                </a:solidFill>
                <a:latin typeface="Arial"/>
              </a:rPr>
              <a:t>80% of Earth’s biodiversity</a:t>
            </a:r>
            <a:endParaRPr b="1" lang="en-US" sz="30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2280" y="4267080"/>
            <a:ext cx="3733920" cy="2428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410080" y="4343400"/>
            <a:ext cx="3524400" cy="2349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28600" y="990720"/>
            <a:ext cx="16178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Rainforest Biome Map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617220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Review - </a:t>
            </a:r>
            <a:r>
              <a:rPr b="0" lang="en-US" sz="4000" spc="-1" strike="noStrike" u="sng">
                <a:solidFill>
                  <a:srgbClr val="ff5bad"/>
                </a:solidFill>
                <a:uFillTx/>
                <a:latin typeface="Arial"/>
              </a:rPr>
              <a:t>Ecosystem</a:t>
            </a:r>
            <a:endParaRPr b="0" lang="en-US" sz="40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1676520"/>
            <a:ext cx="7924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979a"/>
                </a:solidFill>
                <a:latin typeface="Arial"/>
              </a:rPr>
              <a:t>Group of living organisms that interact with one another and the nonliving physical environment as one unit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3270240"/>
            <a:ext cx="4114800" cy="3406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00600" y="3324240"/>
            <a:ext cx="41148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Grasslands – page 159-161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120" y="761760"/>
            <a:ext cx="72392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Less rainfall than forest regions, cannot support large vegetation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Predominant vegetation – GRAS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1/5 Earth’s surface; on all continents except _____________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hree major types of grasslands: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82979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979a"/>
                </a:solidFill>
                <a:latin typeface="Arial"/>
              </a:rPr>
              <a:t>Tropical – savanna; warm all year with long dry season</a:t>
            </a: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82979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979a"/>
                </a:solidFill>
                <a:latin typeface="Arial"/>
              </a:rPr>
              <a:t>Temperate – prairie; very cold winters; hot, dry summer; fertile soil</a:t>
            </a: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82979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979a"/>
                </a:solidFill>
                <a:latin typeface="Arial"/>
              </a:rPr>
              <a:t>Polar (Tundra)</a:t>
            </a: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4838760"/>
            <a:ext cx="31240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The differing grasslands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133720" y="838080"/>
            <a:ext cx="601020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Grassland Biome Map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63943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Temperate and tropical grassland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49" name="" descr="temperate_grassland_map.gif"/>
          <p:cNvPicPr/>
          <p:nvPr/>
        </p:nvPicPr>
        <p:blipFill>
          <a:blip r:embed="rId2"/>
          <a:stretch/>
        </p:blipFill>
        <p:spPr>
          <a:xfrm>
            <a:off x="1371600" y="914400"/>
            <a:ext cx="3733920" cy="2301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809880" y="3287880"/>
            <a:ext cx="5010120" cy="2979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10552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979a"/>
                </a:solidFill>
                <a:latin typeface="Arial"/>
              </a:rPr>
              <a:t>temperate</a:t>
            </a:r>
            <a:endParaRPr b="0" lang="en-US" sz="32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5562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979a"/>
                </a:solidFill>
                <a:latin typeface="Arial"/>
              </a:rPr>
              <a:t>tropical</a:t>
            </a:r>
            <a:endParaRPr b="0" lang="en-US" sz="3200" spc="-1" strike="noStrike">
              <a:solidFill>
                <a:srgbClr val="8297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76720" y="4648320"/>
            <a:ext cx="2381040" cy="2000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Deserts – page 161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Dry area with less than 10 inches rain/year - ~30% Earth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Hot deserts – in tropical regions; Sahara, Atacama S. America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Cold deserts – Gobi in China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emperate deserts – Mojave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562720" y="4343400"/>
            <a:ext cx="3419280" cy="2279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52280" y="4495680"/>
            <a:ext cx="32767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Desert Biome Map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828800" y="990720"/>
            <a:ext cx="66229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Changing Mountain Biomes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828800" y="947880"/>
            <a:ext cx="670572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emperature drops with increase in altitude (elevation)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Precipitation in mts. – depends on side of mountain (windward vs. leeward)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425772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Aquatic Biomes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09320" y="2514600"/>
            <a:ext cx="4876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Marine (salt water) Biomes – coral reefs, estuaries, ocean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133720" y="9140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Freshwater Biomes – ponds, lakes, river, streams, wetland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010280" y="2514600"/>
            <a:ext cx="1947960" cy="4133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1947960" cy="4133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200400" y="4267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Estuary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Where the river meets the sea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73" name="" descr="Map of the United States and Puerto Rico with locations marked for each of the 28 National Estuary Programs, their study areas, and surrounding watersheds"/>
          <p:cNvPicPr/>
          <p:nvPr/>
        </p:nvPicPr>
        <p:blipFill>
          <a:blip r:embed="rId2"/>
          <a:stretch/>
        </p:blipFill>
        <p:spPr>
          <a:xfrm>
            <a:off x="1600200" y="1600200"/>
            <a:ext cx="7400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5bad"/>
                </a:solidFill>
                <a:uFillTx/>
                <a:latin typeface="Arial"/>
              </a:rPr>
              <a:t>Biome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Geographic region of Earth that is inhabited by a community of distinct types of plant and animal specie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Largely defined by </a:t>
            </a:r>
            <a:r>
              <a:rPr b="1" lang="en-US" sz="3200" spc="-1" strike="noStrike" u="sng">
                <a:solidFill>
                  <a:srgbClr val="82979a"/>
                </a:solidFill>
                <a:uFillTx/>
                <a:latin typeface="Arial"/>
              </a:rPr>
              <a:t>climate</a:t>
            </a: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 and soi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2546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190600" y="1523880"/>
            <a:ext cx="4762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5bad"/>
                </a:solidFill>
                <a:uFillTx/>
                <a:latin typeface="Arial"/>
              </a:rPr>
              <a:t>Climate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Defined by the average precipitation and temperature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2979a"/>
                </a:solidFill>
                <a:uFillTx/>
                <a:latin typeface="Arial"/>
              </a:rPr>
              <a:t>Precipitation</a:t>
            </a:r>
            <a:r>
              <a:rPr b="1" lang="en-US" sz="2800" spc="-1" strike="noStrike">
                <a:solidFill>
                  <a:srgbClr val="82979a"/>
                </a:solidFill>
                <a:latin typeface="Arial"/>
              </a:rPr>
              <a:t> – all forms of moisture that fall to Earth from atmosphere</a:t>
            </a: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2979a"/>
                </a:solidFill>
                <a:uFillTx/>
                <a:latin typeface="Arial"/>
              </a:rPr>
              <a:t>Temperature</a:t>
            </a:r>
            <a:r>
              <a:rPr b="1" lang="en-US" sz="2800" spc="-1" strike="noStrike">
                <a:solidFill>
                  <a:srgbClr val="82979a"/>
                </a:solidFill>
                <a:latin typeface="Arial"/>
              </a:rPr>
              <a:t> – how warm or cool the surrounding air is</a:t>
            </a: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Determined by latitude and altitude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91320" y="3200400"/>
            <a:ext cx="22064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467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Impact of Temperature and Precipitation on Biomes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541008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5bad"/>
                </a:solidFill>
                <a:uFillTx/>
                <a:latin typeface="Arial"/>
              </a:rPr>
              <a:t>Latitude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distance north or south of equator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70866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5bad"/>
                </a:solidFill>
                <a:uFillTx/>
                <a:latin typeface="Arial"/>
              </a:rPr>
              <a:t>Altitude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height above sea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828800" y="1606680"/>
            <a:ext cx="701028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Impact of Latitude and </a:t>
            </a:r>
            <a:br>
              <a:rPr sz="3600"/>
            </a:b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Altitude on Biomes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828800" y="1295280"/>
            <a:ext cx="67057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Notes about biomes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Contain many ecosystem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Organisms in a biome are ADAPTED to the environmental condition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ame biome occurs in several places on Earth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here are both aquatic and land biome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238880" y="4724280"/>
            <a:ext cx="17431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0:54:27Z</dcterms:created>
  <dc:creator> </dc:creator>
  <dc:description/>
  <dc:language>en-US</dc:language>
  <cp:lastModifiedBy>lvangorden</cp:lastModifiedBy>
  <dcterms:modified xsi:type="dcterms:W3CDTF">2008-02-28T14:26:16Z</dcterms:modified>
  <cp:revision>14</cp:revision>
  <dc:subject/>
  <dc:title>Bio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01033</vt:lpwstr>
  </property>
</Properties>
</file>